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1F6-E63D-4F71-ACA3-2704556E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B57-567F-45FA-BB7C-7F16275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EBA-3485-48A1-B695-FF3B9865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520-3E9D-4E45-A839-BEE1B4E8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495A-595C-490C-A8EA-44BFF984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57C9-9027-42AB-8057-C49622E9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E2F-57D2-4FEC-9C00-C3FCFB94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64C8-BC86-487B-B052-F3BFF469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FE06-5579-40A5-AE63-C2141C5B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AD74-443C-430B-A166-52B971255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4F438-3E1A-4B2E-A06F-1FFB07E3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9BF6-ED96-44BF-9EB8-CB1921DD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1BCA-A2B7-4CF1-97C9-C8126E5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42D4-E654-41BD-9AFD-05FD10C3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757F-769C-4ACE-9186-FD64F8C9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5E46-D24B-4B63-8409-4FEFB904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253C-0897-4ECF-A400-923B50A4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F761-C8ED-4877-8777-4E03E8C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73D-70A3-4099-A936-86D5DFA9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2E2B-5A13-40CD-8D54-48F1C286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B67-D4E6-421F-AD4A-EB0AC5FB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2099-6327-45B3-B1A3-BFE69608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AEA-74C6-4AA5-B526-EB0D7E8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D298-BE4F-4372-9848-60E202D7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7785-B9EC-438D-97D9-E5541DBBD9CF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A780-95E5-416F-8CFD-7A040130D2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F732-9C74-451A-B19C-A0E7EE639DB4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B4E7-E290-489B-BF23-84BB92D1F7B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Interfaces and Collection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C915-2DD5-46E2-9E67-8365B20045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28600" y="15228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tch a possible InvalidCastExcep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ircle c = new Circle("Lisa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Pointy itfP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Pt = (IPointy)c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//cas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itfPt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e.Message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557-6337-456E-9927-2DEF184FBA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28600" y="3808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erface Add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Add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erface Multi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Mul();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Computation : Addition, Multiplic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x,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omputation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Add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x + 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Mul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(x * 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EB09-2DCC-4838-BD23-191F54C475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28600" y="2286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r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utation com = new Computation(10, 2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ddition add = (Addi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m =" + add.Ad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ultiplication mul = (Multiplica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roduct =" + mul.Mul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76C5-6210-4C98-AC64-3A777B2FF77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aining Interface References: The as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52280" y="76212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way we can determine whether a given type support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is to make use of the as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object can be treated as the specified interface, we are retu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reference to th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243828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n we treat hex2 as IPoin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2 = new Hexagon("Pet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Pointy itfPt2 = hex2 as IPoint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(itfPt2 != nul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oints: {0}", itfPt2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OPS! Not pointy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8ABD-940D-42BE-9277-F67B1010C4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" y="127944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r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mputation com = new Computation(10, 2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Addition add = (Addi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ddition add = com as Addi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m =" + add.Add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Multiplication mul = (Multiplication)co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ultiplication mul = com as Multiplicatio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roduct =" + mul.Mul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8600" y="1522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the previous example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8B92-6DD0-43A0-8443-EE58141F614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aining Interface References: The is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52280" y="685800"/>
            <a:ext cx="8839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y also check for an implemented interface using the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object is not compatible with the specified interface, w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ed the value fal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the other hand, if the type is compatible with the interface we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fely call the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C5F-54CC-4E69-9B9D-C27DCE1D4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04920" y="304920"/>
            <a:ext cx="8610480" cy="5612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ape[] s = { new Hexagon(), new Circle(), new Triangle("Joe"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new Circle("JoJo")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 = 0; i &lt; s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Recall the Shape base class defines an abstract Draw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ember, so all shapes know how to draw themselv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[i].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Who's point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(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[i] is IPointy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Points: {0} ", ((IPointy)s[i])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\'s not pointy!", s[i]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3BA-4B58-40B3-9016-D20394D49F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 As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60948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interfaces are valid .NET types, we may constru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take interfaces as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defined another interface named IDraw3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213372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odels the ability to render a type in stunning 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aw3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733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two of the three shapes (Circle and Hexagon) ha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en configured to support this new behavio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47920" y="4545000"/>
            <a:ext cx="574812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3D67-C74D-457D-A385-4FCB44D3E44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ircle supports IDraw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ircle : Shape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aw3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Circle in 3D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Hexagon supports IPointy and IDraw3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Hexagon : Shape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Pointy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Draw3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aw3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Hexagon in 3D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57CA-3B8C-4D85-811C-541A4290BE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152280"/>
            <a:ext cx="8763120" cy="559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Make some shapes. If they can be rendered in 3D, do it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class Progra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0" sz="1900" spc="-1" strike="noStrike">
                <a:solidFill>
                  <a:srgbClr val="cc3300"/>
                </a:solidFill>
                <a:latin typeface="Times New Roman"/>
              </a:rPr>
              <a:t>DrawIn3D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sz="1900" spc="-1" strike="noStrike">
                <a:solidFill>
                  <a:srgbClr val="000000"/>
                </a:solidFill>
                <a:latin typeface="Times New Roman"/>
              </a:rPr>
              <a:t>IDraw3D itf3d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onsole.WriteLine("-&gt; Drawing IDraw3D compatible type"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900" spc="-1" strike="noStrike">
                <a:solidFill>
                  <a:srgbClr val="000000"/>
                </a:solidFill>
                <a:latin typeface="Times New Roman"/>
              </a:rPr>
              <a:t>itf3d.Draw3D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tatic void Main(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hape[] s = { new Hexagon(), new Circle()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new Triangle(), new Circle("JoJo")} 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for(int i = 0; i &lt; s.Length; i++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if(s[i] is IDraw3D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rawIn3D((IDraw3D)s[i]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F52-5352-4869-A45B-9EA9E9D24C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5DCF-9771-4AD7-AA70-95EB65C0F3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Interfaces Using C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762120"/>
            <a:ext cx="876312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is a collection of semantically relat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memb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expresses a behavior that a given class may supp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is defined using the C# "interface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like other .NET types, interfaces never specify a base class (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ven System.Objec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ontain members that do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an access modifier (give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methods are implicitly public, in order to allow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ing type to implement the member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486108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nterfaces don't have base class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GetNumberOfPoints(); // Implicitly public and abstra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5A7F-39B4-4C95-A20F-9F018EDA38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76320"/>
            <a:ext cx="906768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s of Interfa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762120"/>
            <a:ext cx="876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interface can be implemented by numerous types, even i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y are not within the same class hierarch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an array of IPointy-compatible objec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se members all support the same interface, we are  abl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erate through the array and treat each object as an IPointy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object, regardless of the overall diversity of th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ierarch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41AB-7326-42F9-88A1-1F6BDCBF6B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380880"/>
            <a:ext cx="883944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This array can only contain types that implement th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// IPointy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ointy[] myPointyObjects = {new Hexagon(), new Knife(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riangle(), new Fork(), new PitchFork()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(int i = 0; i &lt; myPointyObject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Object has {0} points."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PointyObjects[i].Point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876-A097-43B6-A8D1-0F5B43F2EB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1200" y="12708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yte Points { get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abstract class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rotected string pet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hap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"Noname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hape(String 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DCE-4F9C-4A04-954C-5DAE81AA74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virtual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Shape.Draw()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tring Pet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pet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etName = val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00A-3680-4976-8F69-BBE69E0FFC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77840"/>
            <a:ext cx="8763120" cy="6494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Circle : Sha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ircl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ircle(String name)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Hexagon : Shape,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Hexago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Hexagon(string name)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C826-2E02-49B9-B6C1-C26C6A1158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920" y="152280"/>
            <a:ext cx="8610480" cy="6616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 { return 3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Triangle : Shape, IPoin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Triangl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Triangle(string nam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: base(nam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C9C-1B36-4869-8B3E-272F994024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228600"/>
            <a:ext cx="868680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Drawing {0} the Triangle", Pet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78F-EAE8-4CD6-82F1-5C9DFF0A3D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2280" y="228600"/>
            <a:ext cx="876312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Fork : Shape, IPo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9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PitchFork : Shape, IPoin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return 1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42E-0573-4B5A-8D78-0D25C07BB91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4920" y="304920"/>
            <a:ext cx="8686800" cy="6136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Pointy[] myPointyObjects = { new Hexagon(), ne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riangle(), new Fork(), new PitchFork()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for (int i = 0; i &lt; myPointyObject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Object has {0} points."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PointyObjects[i].Point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41B-A240-4FAB-AACB-02BF2042DCD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Explicit Interface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6094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f the problem why C# does not support multiple inheritance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problem of name colli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is present in C# when it implements more than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36232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erface 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erface 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C : L1, 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isplay()  {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579132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es C.Display() implements L1.Display() or L2.Display()….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ambiguous &amp; compiler reports an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89F-A3A7-4CE3-B1FD-D7A31B3C51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interfaces are also able to define any number of proper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28600" y="685800"/>
            <a:ext cx="876312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pointy behavior as a read / write proper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emove 'get' or 'set' to build read/write only proper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te Points{ get; set;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2895480"/>
            <a:ext cx="8686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differences b/n class &amp; interf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the members of an interface are implicitly public &amp; abstra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interface cannot contain constant fields, constructor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u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s members cannot be declared stati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ce the methods in an interface are abstract, they do not inclu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 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9FC1-9E04-41C2-B8BB-B12A29D996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a technique known as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explicit interface implement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ich allows a method to specify explicitly the name of the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 is implement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144792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L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L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 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7E17-0F33-4E15-B186-698E543E7C2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228600"/>
            <a:ext cx="876312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1 : C,L1,L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L1.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L1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L2.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L2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void displ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1 Display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FFFC-A987-42FE-82BD-C72CE3E84BA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15228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Inteface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1 c = new C1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1 l1 = (L1)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1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2 l2 = (L2)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2.displ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84FE-AC1F-4055-AA16-762D1EA2E4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Interface Hierarch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762120"/>
            <a:ext cx="876312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st as a class can serve as a base class to other classes, it is poss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uild inheritance relationships among interfa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expected, the topmost interface defines a general behavior, wh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ost derived interface defines more specific behavio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803680"/>
            <a:ext cx="861048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Draw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Printable : IDraw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Pri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MetaFileRender : IPrint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Ren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667240" cy="426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4480-92BA-43DA-9627-F3380F7CB09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152280"/>
            <a:ext cx="876312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 class wished to support each behavior expressed in this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ierarchy, it would derive from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th-mo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IMetaFileRender in this case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methods defined by the base interface(s) are automatic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ried into the defini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some sample usage of exercising each interface from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erImage ins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4E8E-1E2D-46DA-BCEB-AF8F5367FD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228600"/>
            <a:ext cx="8839440" cy="648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 IDraw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Draw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Printable : IDraw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Print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IMetaFileRender : IPrint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void Render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SuperImage : IMetaFileRend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Draw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Basic drawing logic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Prin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Draw to printer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void Render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Render to metafile."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3F14-83EE-4ADC-AE14-BBB289779FE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28600" y="22860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Ex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uperImage si = new SuperImag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Drawable itfDraw = (IDrawable)s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Draw.Draw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itfDraw is IMetaFileRend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MetaFileRender itfMF = (IMetaFileRender)itfDraw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MF.Ren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MF.Prin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D27-32A1-4803-A541-DCD55768A64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faces with Multiple Base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68580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we build interface hierarchies, it is permitted to creat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that derives from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ltipl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 interfa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missible to build a class that derives from multiple ba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2803680"/>
            <a:ext cx="861084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010199"/>
                </a:solidFill>
                <a:latin typeface="Times New Roman"/>
              </a:rPr>
              <a:t>I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riv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IUnderwater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Dive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JamesBondCa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 </a:t>
            </a:r>
            <a:r>
              <a:rPr b="1" sz="2000" spc="-1" strike="noStrike">
                <a:solidFill>
                  <a:srgbClr val="010199"/>
                </a:solidFill>
                <a:latin typeface="Times New Roman"/>
              </a:rPr>
              <a:t>ICar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IUnderwater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TurboBoost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5257800" cy="288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E7D-BCF2-4B2B-B711-7197490B5C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76312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ff0000"/>
                </a:solidFill>
                <a:latin typeface="Times New Roman"/>
              </a:rPr>
              <a:t>JamesBondCa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JamesBondC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riv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peeding up...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Dive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ubmerging...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TurboBoos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last off!"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2DD-7623-4021-BC0E-8A2C12EDAF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amesBondCar j = new JamesBondCa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Driv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TurboBoos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j.Div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28B-CA7C-49E9-8A1B-89E40C9445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lementing an Interface Using C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68580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derives from System.Object and implements a sing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SomeClass :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52280" y="2514600"/>
            <a:ext cx="883944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lass derives from a specific base class and implements a sing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AnotherClass : MyBaseClass,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28600" y="4343400"/>
            <a:ext cx="876312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This struct derives from System.ValueType and implements a single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uct SomeStruct : ISome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8D89-731D-46BF-AAF5-17DE633D8E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the IConvertible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2120"/>
            <a:ext cx="8763120" cy="42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 are used extensively throughout the .NET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ibrar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Convertible type, which allows us to dynamically conve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tween data types using interface-based programming techn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is interface, we are able to cast between types on the f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intrinsic data types of C# (bool, int, double, etc.)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imply aliases to the System name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ny .NET type, each of these structures may define any nu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methods and may optionally implement any number of predefi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F6D-26E2-42A0-9806-FAF99EE02A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1676520"/>
            <a:ext cx="876312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uc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Boolea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Comparable, IConverti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readonly string Fals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readonly string Tru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CompareTo(object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TypeCode GetTypeCod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bool Parse(string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IFormatProvider provide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view the formal C# definition of System.Boolean, we wou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d this type implements the IComparable and IConvert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F2C-8B60-4E5B-83A0-6E80E62324C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320" y="15228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ypes present in the  IConvertible interface is defined as follow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762120"/>
            <a:ext cx="8763120" cy="58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interface IConvertib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TypeCode GetTypeCode(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bool ToBoolean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byte ToByt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har ToChar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ateTime ToDateTim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ecimal ToDecimal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double ToDoubl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hort ToInt16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int ToInt32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long ToInt64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Byte ToSByt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float ToSingle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string ToString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object ToType(Type conversionType, 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16 ToUInt16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32 ToUInt32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UInt64 ToUInt64(IFormatProvider provider);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B08-AB1F-4D0D-BA3F-74E57A0831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876312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comparing, we might feel that the previous defini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Boolean is in error, because most of the member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Convertable do not appear in the formal structure defin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for this behavior is: If a type implements members of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given interface using explicit interface implementation,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idden from tools such as wincv.ex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gain access to each member of IConvertible interfac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must explicitly request access to the interface us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657600"/>
            <a:ext cx="86104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Obtain the IConverti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l myBool = tru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onvertible itfConv =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Converti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myBoo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C80-8465-4A10-84A8-CF8364C95FD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3816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IConvertible.ToXXXX() Memb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280" y="533520"/>
            <a:ext cx="8839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call IConvertible, what exactly do these members 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defines a number of  methods of the form ToXXXX()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ovide a way to convert from one type into ano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may not always be possible to convert between data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lthough it is natural to convert an Int32 into a Doub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t really makes no sense to convert from a Boolean into a DateTi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type implements an interface, it must contend wit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l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(even if they are not applicable),, otherwise the syste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will simply throw an InvalidCastException if the conversion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mantically ill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F7E-F87E-41E0-AF0A-9827B823355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2286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btain the IConvertible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myBool = tru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Convertible itfConv = (IConvertible)myBoo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tfConv.ToSingle(...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irteLine(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968-D5B1-4524-9068-ADED1AEE79C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320" y="763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Brief Word Regarding IFormatProvi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458640"/>
            <a:ext cx="8991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ToXXXX() methods take a parameter of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ormatProvi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s that implement this interface are able to format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ents based on culture-specific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2133720"/>
            <a:ext cx="861048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ormat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GetFormat(Type formatTyp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92360"/>
            <a:ext cx="8610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ere to build a custom type that should be formatted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ous locals, implementing IFormatProvider would be a mu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returning a floating point number that is formatte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ous currenc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37CD-2410-4A86-93EB-E6E16F5BBAF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304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re simply attempting to call members of the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braries that require an IFormatProvider-compatible object, us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Globalization.CultureInfo typ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2057400"/>
            <a:ext cx="8458200" cy="192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Convertible itfConvert = (IConvertible)theI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yte theByte = itfConvert.ToByte(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CultureInfo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CurrentCultur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Type code int converted to byte is: {0}"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theByte.GetTypeCode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Value of converted int: {0}", theByt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C008-1874-41EC-9B35-2F00B84D835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Convertible.GetTypeCode(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2120"/>
            <a:ext cx="8763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the ToXXXX() members, IConvertible define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 named GetTypeCode(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thod allows us to programmatically discover a value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s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ype co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type, which is represented b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enumeration: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333684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nu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C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ean, Byte, Char, DateTim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Null, Decimal, Double, Empt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16, Int32, Int64, Objec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Byte, Single, String, UInt16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nt32, UInt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322-0E5A-4B8A-AD90-53D9A250F3F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a Custom Enumerator (IEnumerable and IEnumera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developed a class named Cars that contain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 of individual Car types stored within a System.Arra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660680"/>
            <a:ext cx="868680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Cars is a container of Car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Create some Car objects upon startu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 = new Car[4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0] = new Car("FeeFee", 20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1] = new Car("Clunker", 9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2] = new Car("Zippy", 3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Array[3] = new Car("Fred", 30, 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241-E292-48E9-8828-A41ACCB8F45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28600" y="6094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Hexagon now implements IPoin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Hexagon : Shape, IPoin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Hexagon(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Hexagon(string name) : base(nam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rawing {0} the Hexagon", PetName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Pointy Implement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 { return 6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76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pdated shape hier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D157-A690-4499-8668-7754CACB07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228600"/>
            <a:ext cx="876312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seems reasonab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Dri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rs carLot = new Car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Hand over each car in the collection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Car c in carLo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Name: {0} "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Max speed: {0} ", c.MaxSpe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47563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mpiler informs you that the Cars class does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 a method named GetEnumerator(). This metho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ed by the IEnumera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A6D-558F-49F7-B69D-B00091AD84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04920" y="13644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This interface informs the call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that the object's subitems can be enumera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Enumerator GetEnumerato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7398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etEnumerator() method returns a reference to yet anoth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named System.Collections.IEnumerat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terface provides the infrastructure to allow the calle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raverse the internal objects contained by the IEnumerabl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contai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to rectify the problem, we may begin by updating the Ca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ition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495680"/>
            <a:ext cx="8382240" cy="2284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class Cars :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numer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IEnumerable defines a single metho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OK, now what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D161-87A8-4CBC-83D8-BE9CF9B465A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1600200"/>
            <a:ext cx="868680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interface allows the caller 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tain a container's subitem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Enum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MoveNext(); // Advance the internal position of the curs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ject Current { get; } // Get the current item (read-only property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Reset(); // Reset the cursor before the first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Enumerator is also defined in the System.Collections namesp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defines the following three  metho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259-F9C2-4BCA-96D9-A012C7C998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at IEnumerable.GetEnumerator() returns an IEnumera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, we may update the Cars typ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143000"/>
            <a:ext cx="868680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s : IEnumerable, IEnum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mplementation of IEnumer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(IEnumerator)thi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411480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 the implementation of MoveNext(), Current, and Reset()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rs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one possible implementation of these  memb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DE37-6F0C-4D5E-94CA-4EFB862C1C6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52280" y="76320"/>
            <a:ext cx="883944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An enumerable car collection!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lass Cars : IEnumerable, IEnumerato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Current position in array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nt pos = -1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// Make some cars and add them to the array...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IEnumerator implementatio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bool MoveNex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f(pos &lt; carArray.Length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s++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void Reset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  pos = 0;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object Current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get {   return carArray[pos];  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// IEnumerable implementation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{ return (IEnumerator)this;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AF9-2A96-49A3-A374-CB491F346C2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152280"/>
            <a:ext cx="86868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then, what have we gained by equipping our class to suppor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IEnumerator and IEnumerable interfac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our custom type can now be traversed using the forea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nta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220968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ach(Car c in carL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Name: {0} "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Max speed: {0} ", c.MaxSpee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9718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19C5-9B4D-44FA-9A2A-9D6DE54603C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93760" y="152280"/>
            <a:ext cx="86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, when we explicitly implement the member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Enumerator, we provide the object user with an alternativ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cessing the underlying objects in the containe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37160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ccess Car types using IEnume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numerator itfEnu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 = (IEnumerator)carLo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Reset the cursor to the beginn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.Rese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dvance internal cursor by 1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fEnum.MoveNex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Grab current Car and crank some tu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curCar = itfEnum.Curre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(Car)curCar).CrankTunes(tr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6472-4892-4D82-ADFB-58B9810A3290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ightening Up the Cars Class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572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Array already implements IEnumerator, we could shor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oding of the Cars type quite a bit. Here is the complete upd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1295280"/>
            <a:ext cx="876312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s : IEnumerable // IEnumerator 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Don't need this anymor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class maintains an array of ca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ar[] carArra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s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 = new Car[4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0] = new Car("FeeFee", 20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1] = new Car("Clunker", 9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2] = new Car("Zippy", 3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ray[3] = new Car("Fred", 30, 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Enumerator GetEnumerator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w just get back the IEnumerator 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internal array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carArray.GetEnumerator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E07-89C4-4238-B3AC-93811730E03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28600" y="903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Cloneable Objects (IClone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754200"/>
            <a:ext cx="883908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efines a member named MemberwiseClone(). Th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is used to obtain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hallow co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current obj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users do not call this method directly (as it is protected)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owever, a given object may call this method itself dur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on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ces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ware that if we assign one reference variable to anoth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have two references pointing to the same object in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ollowing assignment operation results in two references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e Point object on the heap; modifications using either refer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ffect the same object on the heap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43F-1EAD-4A99-9E72-0E8F0FFA8F7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ublic for easy acce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Override Object.ToString(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wo references to same object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int p1 = new Point(50, 5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oint p2 = p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2.x = 0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//modification affects the value of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p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p2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E01E-77E7-4C14-A413-580DE50AC27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28600" y="257040"/>
            <a:ext cx="8763120" cy="6461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New Shape derived class named Triangle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class Triangle : Shape, IPoint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Triangle(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Triangle(string name) : base(name)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override void Draw(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Console.WriteLine("Drawing {0} the Triangle", PetName)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// IPointy Implementati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public byte Point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return 3;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9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352680" y="3962520"/>
            <a:ext cx="5562720" cy="266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A9D-9A27-4744-921B-EBB5388F6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15228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wish to equip our custom types to support the abili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 an identical copy of itself to the caller, we may implemen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ndard ICloneabl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ype defines a single method named Clone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1828800"/>
            <a:ext cx="876312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Clone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Clo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27672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mplementation of the Clone() method varies between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basic functionality tends to be the same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py the values of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member variables into a new object instance, and return it to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the us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5538-6F79-4D84-9250-6E5E3D61150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52280"/>
            <a:ext cx="8763120" cy="648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class Point : ICloneabl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) {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Point(int x, int y) { this.x = x; this.y = y; 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Return a copy of the current object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object Clone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return new Point(this.x, this.y);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sz="1500" spc="-1" strike="noStrike">
                <a:solidFill>
                  <a:srgbClr val="000000"/>
                </a:solidFill>
                <a:latin typeface="Times New Roman"/>
              </a:rPr>
              <a:t>this.MemberwiseClone();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return string.Format("X = {0}; Y = {1}", x, y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Notice Clone() returns a generic object ty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You must perform an explicit cast to obtain the derived typ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3 = new Point(100, 100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Change p4.x (which will not change p3.x)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p4.x = 0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// Print each object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3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p4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0BB-B922-41CF-8825-11613298C50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ore Elaborate Clon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609480"/>
            <a:ext cx="87631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the Point class contains a reference type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of type PointDescri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lass maintains a point’s friendly name as well as an 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 expressed as a System.Guid (Globally Unique Identifi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[GUID] is a statistically unique 128-bit numb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7432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PointDe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xposed publicly for simplici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pe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Guid pointI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ointDescriptio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is.petName = "No-name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ID = Guid.NewGui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83F-8663-4625-9A0A-25C9645B5C0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152280"/>
            <a:ext cx="876312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Point : IClon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Description desc = new PointDescriptio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){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 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Point(int x, int y, string petnam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is.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desc.petName = pet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this.MemberwiseClone();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override string ToString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string.Format("X = {0}; Y = {1}; Name = {2};\nID = {3}\n"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, y, desc.petName, desc.pointID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F27-7F12-4E53-A1F8-E373ED40427F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15228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Cloned p3 and stored new Point in p4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 p3 = new Point(100, 100, "Jan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oint p4 = (Point)p3.Clo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modification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3: {0}", p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4: {0}", p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4.desc.petName = "Mr. X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4.x = 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Changed p4.desc.petName and p4.x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modification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3: {0}", p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4: {0}", p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5CB-4B07-4998-8556-6472CCDFEB3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228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for your Clone() method to make a complete deep copy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internal reference types, you need to configure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turned by MemberwiseClone() to account for the current point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1905120"/>
            <a:ext cx="868680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we need to adjust for the PointDescription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object Clon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 newPoint = (Point)this.MemberwiseClo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intDescription currentDesc = new PointDescripti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Desc.petName = this.desc.pe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Point.desc = currentDesc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newPoin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D266-52A8-4783-8140-7E22DA99CDA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Comparable Objects (IComparab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IComparable interface specifies a behavior that allow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object to be sorted based on some specified ke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676520"/>
            <a:ext cx="868680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interface allows an object to specify 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relationship between other like objec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erface ICompar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CompareTo(object o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5053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updated the Car class to maintain an internal I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ber that can be set via a constructor parameter and manipula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a new property named I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2DF-E40C-41D5-A632-B9D63953245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228600"/>
            <a:ext cx="876312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Ca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car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carID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value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(string name, int currSp, int 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CD1-6A8A-49E2-AFF5-C5094F4561A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52280" y="228600"/>
            <a:ext cx="883944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an array of Car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[] myAutos = new Car[5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0] = new Car("Rusty", 80, 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1] = new Car("Mary", 40, 2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2] = new Car("Viper", 40, 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3] = new Car("Mel", 40, 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4] = new Car("Chucky", 40, 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979800"/>
            <a:ext cx="8686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Array class defines a static method named Sort(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invoke this method on an array of intrinsic types (int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rt, string, etc.), we are able to sort the items in the array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/alphabetic order as these intrinsic data types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484E-9462-4AF7-8B8C-01EF4F187FE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we send an array of Car types into the Sort() method as follow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457200"/>
            <a:ext cx="8686800" cy="64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ort my c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.Sort(myAuto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1066680"/>
            <a:ext cx="87631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rgumentException exception is thrown by the runtim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th the following message: “At least one object must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able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custom types, we can implement IComparabl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w arrays of our types to be s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9067680" cy="181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C21-5531-4E33-8216-E8F24F682C85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asting Interfaces to Abstract Base Clas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52280" y="685800"/>
            <a:ext cx="8839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lows us to build abstract class types containing abstr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stract base classes define a group of abstract  methods. They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ee to define public, private, and protected state data, any numb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can be accessed by the subclas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faces, are pure protocol. Interface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state data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v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 an implementation of the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304920" y="379404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erface IAmABad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, interfaces can't define data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myInt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Error, only abstract members allowed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void My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Console.WriteLine("Eek!")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EE22-A82F-489D-90CA-5F95D91051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04920" y="88920"/>
            <a:ext cx="861048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class Car : ICompar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ar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carID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D = valu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Comparable.CompareTo(object obj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 temp = (Car)obj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this.carID &gt; temp.car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this.carID &lt; temp.carI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038480"/>
            <a:ext cx="41911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gic behind CompareTo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o test the incoming type against the current instance based on a specific point of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E3F0-B3C2-456A-8D4B-71D426D06F83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2280" y="152280"/>
            <a:ext cx="883944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(string name, int currSp, int 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D = 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an array of Car typ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[] myAutos = new Car[5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0] = new Car("Rusty", 80, 1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1] = new Car("Mary", 40, 2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2] = new Car("Viper", 40, 3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3] = new Car("Mel", 40, 4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Autos[4] = new Car("Chucky", 40, 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Here is the unordered set of car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2671-4E78-41EB-8C75-CEEB25A248B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152280"/>
            <a:ext cx="876312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Now, sort them using IComparabl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Array.Sort(myAuto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tch( Exception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Message :"+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Dump sorted arr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Here is the ordered set of car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Car c in myAuto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A4A-5D30-4040-AC7F-D62E8B4EE55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ifying Multiple Sort Orders (IComp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8600" y="685800"/>
            <a:ext cx="87631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f we wanted to build a Car that could be sorted by I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s well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a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pet n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is is the case, we need to use another standard interface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Comparer, defined within the System.Collections namesp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66688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A generic way to compare two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ICompar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Compare(object o1, object o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A1E-4094-4B71-8497-8F2871D2B02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2280" y="76320"/>
            <a:ext cx="8763120" cy="22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omparer is not implemented in the way we sorted the car ex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implement this interface on any number of helper classes,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each sort order (pet name, car ID, etc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llow the object user to sort an array of Car types by pet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require an additional helper class that implements ICompar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241776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helper class is used to sort an array of Cars by pet na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Collec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lass PetNameComparer :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Compar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tNameComparer()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est the pet name of each objec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IComparer.Compare(object o1, object o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 t1 = (Car)o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 t2 = (Car)o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String.Compare(t1.PetName, t2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3F2-1305-45F6-81B6-6F028131F1E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30492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w sort by pet na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rray.Sort(myAutos, new PetNameComparer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Dump sorted arr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rdering by pet nam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(Car c in myAu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{0} {1}", c.ID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091-0425-4498-B429-78D4C50705A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Custom Properties, Custom Sort Ty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20" y="457200"/>
            <a:ext cx="89154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make use of a custom static property in order to help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user to sort the types by a specific data poi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e Car class has added a static read-only property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rtByPetName that returns an instance of an object implemen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IComparer interface (PetNameComparer, in this case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2575080"/>
            <a:ext cx="84582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We now support a custom property to retur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correct IComparer inte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 : ICompa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roperty to return the SortByPetName compar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IComparer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ortByPetN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 get { return (IComparer)new PetNameComparer(); }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5851440"/>
            <a:ext cx="85341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Sorting by pet name made a bit clean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.Sort(myAuto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.SortByPet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5257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ing logic in Main()……….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A3D-348E-48D1-8768-5E6BA272CA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oring the System.Collections Name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609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Collections namespace defines a number of interf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839080" cy="55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400-E765-4EE4-81AD-064C5892E9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228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685800"/>
            <a:ext cx="8763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primitive interface of the System.Collections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nterface provides a small set of properties that allow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ermin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ber of items in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d safety of the 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bility to copy the contents into a System.Array typ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59280"/>
            <a:ext cx="830592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Colle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Enumerable member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Count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Synchronized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SyncRoot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opyTo(Array array, int inde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174-157F-4CD8-B40C-48E80A19C88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Dicti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685800"/>
            <a:ext cx="88394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ctionar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collection that maintains a set of name/value pai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ictionary interface defines a Keys and Values property as we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 Add(), Remove(), and Contains() methods. The individual ite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obtained by the type index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5146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ctionar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Collection,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FixedSiz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ReadOnl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his[ object key ] { get; s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llection Keys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ollection Values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Add(object key, 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Contains(object ke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ictionaryEnumerator GetEnumerato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(object ke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214-67B8-4623-B2F8-C1BB61C3AE9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228600" y="889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oking Interface Members at the Object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7621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straightforward way to interact with functionality suppl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 a given interface is to invoke the methods directly from the objec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160020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all new Points member defined by IPoint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Hexagon hex = new 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Points: {0}", hex.Point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28600" y="4038480"/>
            <a:ext cx="8686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pproach works fine in this particular case, given that we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ware that the Hexagon type has implemented the interf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imes, we will not be able to determine at compile time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 are supported by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1A2-1A06-4746-A160-CE7031C0B4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7840" y="1144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DictionaryEnum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2280" y="762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ictionaryEnumerator is simply a strongly typed enumerator,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it extends IEnumera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280" y="1600200"/>
            <a:ext cx="883944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ctionaryEnumerato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Enum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Enumerator methods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ctionaryEntry Entr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Ke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Valu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45A-02C5-4897-AF89-B02F891CAE0B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ole of IL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ist provides the ability to insert, remove, and index items i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or out of) a contai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52388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is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ICollection, IEnumer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FixedSize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IsReadOnly { g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 this[ int index ] { get; set;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dd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ol Contains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ndexOf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Insert(int index, 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(object valu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d RemoveAt(int index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67AC-2E65-4B3D-A1E6-56BF184357D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2280" y="7632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lass Types of System.Coll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4495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371600" y="53341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sses of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Colle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F0F5-11E3-406A-8D28-3CA8B6425CC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ArrayList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762120"/>
            <a:ext cx="883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frequently used type in the System.Collections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allows us to dynamically resize the cont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0EB1-2B54-4C3D-8496-0478E3F0977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114480"/>
            <a:ext cx="88390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reate ArrayList and fill with some initial val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rayList carArList = new ArrayLis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List.AddRange(new Car[] { new Car("Fred", 90, 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Car("Mary", 100, 50), new Car("MB", 190, 11)}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tems in carArList: {0}", carArList.Cou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int out current valu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ach(Car c in carArLis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ar pet name: {0}", c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Insert a new i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\n-&gt;Inserting new Car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rList.Insert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ew Car("TheNewCar", 0, 12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tems in carArList: {0}", carArList.Cou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Get object array from ArrayList and print ag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[] arrayOfCars = carArList.ToArray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arrayOfCar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ar pet name: {0}", ((Car)arrayOfCars[i])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380-9E19-4E58-9A87-ACC7C60C0A2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Queue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6858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2280" y="5335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ues are containers that ensure items are accessed using a first-i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rst-out man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1120" y="1371600"/>
            <a:ext cx="8850600" cy="1981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2280" y="342900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these methods, we will use automobile theme o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gain and build a Queue object that simulates a line of cars waiting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ter a car wash. Assume the following static helper meth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648320"/>
            <a:ext cx="883944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WashCar(Car 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leaning {0}", c.Pet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C2E-4344-49A5-86F7-71A6A9040A1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228600" y="76320"/>
            <a:ext cx="86104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Make a Q with three i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ue carWashQ = new Queu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FirstCar", 0, 1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SecondCar", 0, 2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WashQ.Enqueue(new Car("ThirdCar", 0, 3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eek at first car in 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irst in Q is {0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(Car)carWashQ.Peek()).PetNam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move each item from Q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ry to de-Q agai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shCar((Car)carWashQ.Dequeue())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Console.WriteLine("Error!! {0}", e.Message);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032D-B3C6-4D5F-AC66-09F510BDB21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320" y="76320"/>
            <a:ext cx="883908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with the Stack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Collections.Stack type represents a collec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s items using a last-in, first-out man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280" y="1523880"/>
            <a:ext cx="883944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Str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stringStack = new Stack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On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Two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tack.Push("Thre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32A-3C43-400B-BFE5-219F5B3CDD7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52280" y="152280"/>
            <a:ext cx="883944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w look at the top item, pop it, and look agai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op item is: {0}", stringStack.Peek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opped off {0}", stringStack.Pop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rror!! {0}", e.Messag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E71-84DA-44A4-A8E6-08917F752D3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6320" y="76320"/>
            <a:ext cx="876276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.Collections.Specialized Namesp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14480" y="762120"/>
            <a:ext cx="8915400" cy="510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895-859B-4D55-A079-283A398B270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28600" y="228600"/>
            <a:ext cx="8686800" cy="42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we have an array containing 50 Shap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mpatible types, only some of which support IPointy. If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ttempt to invoke the Points property on a type that has no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ed IPointy, we receive a compile-time err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question is how can we dynamically determine the se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s supported by a typ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way is we can determine at runtime if a type support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interface is to make use of an explicit cas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type does not support the requested interface, we receiv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validCastEx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3C2D-F8F1-4C91-849D-321D7E38A4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4:55:45Z</dcterms:created>
  <dc:creator>Hemanth</dc:creator>
  <dc:description/>
  <dc:language>en-US</dc:language>
  <cp:lastModifiedBy>Hemanth</cp:lastModifiedBy>
  <dcterms:modified xsi:type="dcterms:W3CDTF">2012-10-29T15:51:22Z</dcterms:modified>
  <cp:revision>462</cp:revision>
  <dc:subject/>
  <dc:title>Interfaces and Collections</dc:title>
</cp:coreProperties>
</file>